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C0B09-CDA5-4CAD-81CE-12F2A5D06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0E8B-47BC-4C9C-833D-DE0E92117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AFE81-C8E4-4E6C-8051-6569817A1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B55B3-4864-433F-BC9A-59A16725A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AE220-4969-4A5C-B2AF-D593297CF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B8C6E-D5C3-473F-B878-6849D559F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86D57-AC08-4710-A727-16F71016B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AF4C5-7462-4689-8CDB-7BD57EEBD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8DD2-C71D-4D73-A70E-011B325A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D5802-C1A3-46BC-A26D-ABA2B570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DB6A-06B1-422C-AA32-EF170F8B3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E5F1C-470F-47F6-A202-66FA2D652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981B-4093-47A5-ABC1-E57143EE1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pa.gov/ozone/defns.html#cfc" TargetMode="External"/><Relationship Id="rId2" Type="http://schemas.openxmlformats.org/officeDocument/2006/relationships/hyperlink" Target="http://www.epa.gov/ozone/defns.html#hcfc" TargetMode="External"/><Relationship Id="rId3" Type="http://schemas.openxmlformats.org/officeDocument/2006/relationships/hyperlink" Target="http://www.epa.gov/ozone/defns.html#ods" TargetMode="External"/><Relationship Id="rId4" Type="http://schemas.openxmlformats.org/officeDocument/2006/relationships/hyperlink" Target="http://www.epa.gov/ozone/science/myths/heavier.html" TargetMode="External"/><Relationship Id="rId5" Type="http://schemas.openxmlformats.org/officeDocument/2006/relationships/hyperlink" Target="http://www.epa.gov/ozone/mbr/index.html" TargetMode="External"/><Relationship Id="rId6" Type="http://schemas.openxmlformats.org/officeDocument/2006/relationships/hyperlink" Target="http://www.epa.gov/ozone/defns.html#halon" TargetMode="External"/><Relationship Id="rId7" Type="http://schemas.openxmlformats.org/officeDocument/2006/relationships/hyperlink" Target="http://www.epa.gov/ozone/defns.html#mcf"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ooldownglobalwarming.com/global-warming/ozone-depletion/index.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0"/>
            <a:ext cx="7238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zone Deple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2133360" y="5562720"/>
            <a:ext cx="48006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n Farrel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Picture 7" descr="antarctica-ozone-hole"/>
          <p:cNvPicPr/>
          <p:nvPr/>
        </p:nvPicPr>
        <p:blipFill>
          <a:blip r:embed="rId1"/>
          <a:stretch/>
        </p:blipFill>
        <p:spPr>
          <a:xfrm>
            <a:off x="2362320" y="1066680"/>
            <a:ext cx="4228920" cy="441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What is i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zone layer is a </a:t>
            </a:r>
            <a:r>
              <a:rPr b="0" lang="en-US" sz="2500" spc="-1" strike="noStrike" u="sng">
                <a:solidFill>
                  <a:srgbClr val="000000"/>
                </a:solidFill>
                <a:uFillTx/>
                <a:latin typeface="Arial"/>
              </a:rPr>
              <a:t>concentration of ozone molecules in the stratospher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The stratosphere, the next higher layer, extends about 10-50 kilometers above the Earth's surfac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Stratospheric ozone is a naturally-occurring gas that filters the sun's ultraviolet (UV) radi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 </a:t>
            </a:r>
            <a:r>
              <a:rPr b="0" lang="en-US" sz="2500" spc="-1" strike="noStrike" u="sng">
                <a:solidFill>
                  <a:srgbClr val="000000"/>
                </a:solidFill>
                <a:uFillTx/>
                <a:latin typeface="Arial"/>
              </a:rPr>
              <a:t>A diminished ozone layer allows more radiation to reach the Earth's surfac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For people, overexposure to UV rays can lead to skin cancer, cataracts, and weakened immune system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Increased UV can also lead to reduced crop yield and disruptions in the marine food chain.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being deplete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aused by the release of </a:t>
            </a:r>
            <a:r>
              <a:rPr b="0" lang="en-US" sz="1800" spc="-1" strike="noStrike" u="sng">
                <a:solidFill>
                  <a:srgbClr val="009999"/>
                </a:solidFill>
                <a:uFillTx/>
                <a:latin typeface="Arial"/>
                <a:hlinkClick r:id="rId1"/>
              </a:rPr>
              <a:t>chlorofluorocarbons (CFCs)</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2"/>
              </a:rPr>
              <a:t>hydro fluorocarbons (HCFCs)</a:t>
            </a:r>
            <a:r>
              <a:rPr b="0" lang="en-US" sz="1800" spc="-1" strike="noStrike" u="sng">
                <a:solidFill>
                  <a:srgbClr val="000000"/>
                </a:solidFill>
                <a:uFillTx/>
                <a:latin typeface="Arial"/>
              </a:rPr>
              <a:t>, and other </a:t>
            </a:r>
            <a:r>
              <a:rPr b="0" lang="en-US" sz="1800" spc="-1" strike="noStrike" u="sng">
                <a:solidFill>
                  <a:srgbClr val="009999"/>
                </a:solidFill>
                <a:uFillTx/>
                <a:latin typeface="Arial"/>
                <a:hlinkClick r:id="rId3"/>
              </a:rPr>
              <a:t>ozone-depleting substances (ODS)</a:t>
            </a:r>
            <a:r>
              <a:rPr b="0" lang="en-US" sz="1800" spc="-1" strike="noStrike" u="sng">
                <a:solidFill>
                  <a:srgbClr val="000000"/>
                </a:solidFill>
                <a:uFillTx/>
                <a:latin typeface="Arial"/>
              </a:rPr>
              <a:t>, which were used widely as refrigerants, insulating foams, and solvents. The discussion below focuses on CFCs, but is relevant to all ODS. Although </a:t>
            </a:r>
            <a:r>
              <a:rPr b="0" lang="en-US" sz="1800" spc="-1" strike="noStrike" u="sng">
                <a:solidFill>
                  <a:srgbClr val="009999"/>
                </a:solidFill>
                <a:uFillTx/>
                <a:latin typeface="Arial"/>
                <a:hlinkClick r:id="rId4"/>
              </a:rPr>
              <a:t>CFCs are heavier than air</a:t>
            </a:r>
            <a:r>
              <a:rPr b="0" lang="en-US" sz="1800" spc="-1" strike="noStrike" u="sng">
                <a:solidFill>
                  <a:srgbClr val="000000"/>
                </a:solidFill>
                <a:uFillTx/>
                <a:latin typeface="Arial"/>
              </a:rPr>
              <a:t>, they are eventually carried into the stratosphere in a process that can take as long as 2 to 5 years. Measurements of CFCs in the stratosphere are made from balloons, aircraft, and satelli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FCs and HCFCs reach the stratosphere, the ultraviolet radiation from the sun causes them to break apart and release chlorine atoms which react with ozone, starting chemical cycles of ozone destruction that deplete the ozone layer. One chlorine atom can break apart more than 100,000 ozone molecu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hemicals that damage the ozone layer include </a:t>
            </a:r>
            <a:r>
              <a:rPr b="0" lang="en-US" sz="1800" spc="-1" strike="noStrike" u="sng">
                <a:solidFill>
                  <a:srgbClr val="009999"/>
                </a:solidFill>
                <a:uFillTx/>
                <a:latin typeface="Arial"/>
                <a:hlinkClick r:id="rId5"/>
              </a:rPr>
              <a:t>methyl bromide</a:t>
            </a:r>
            <a:r>
              <a:rPr b="0" lang="en-US" sz="1800" spc="-1" strike="noStrike" u="sng">
                <a:solidFill>
                  <a:srgbClr val="000000"/>
                </a:solidFill>
                <a:uFillTx/>
                <a:latin typeface="Arial"/>
              </a:rPr>
              <a:t> (used as a pesticide), </a:t>
            </a:r>
            <a:r>
              <a:rPr b="0" lang="en-US" sz="1800" spc="-1" strike="noStrike" u="sng">
                <a:solidFill>
                  <a:srgbClr val="009999"/>
                </a:solidFill>
                <a:uFillTx/>
                <a:latin typeface="Arial"/>
                <a:hlinkClick r:id="rId6"/>
              </a:rPr>
              <a:t>halons</a:t>
            </a:r>
            <a:r>
              <a:rPr b="0" lang="en-US" sz="1800" spc="-1" strike="noStrike" u="sng">
                <a:solidFill>
                  <a:srgbClr val="000000"/>
                </a:solidFill>
                <a:uFillTx/>
                <a:latin typeface="Arial"/>
              </a:rPr>
              <a:t> (used in fire extinguishers), and </a:t>
            </a:r>
            <a:r>
              <a:rPr b="0" lang="en-US" sz="1800" spc="-1" strike="noStrike" u="sng">
                <a:solidFill>
                  <a:srgbClr val="009999"/>
                </a:solidFill>
                <a:uFillTx/>
                <a:latin typeface="Arial"/>
                <a:hlinkClick r:id="rId7"/>
              </a:rPr>
              <a:t>methyl chloroform</a:t>
            </a:r>
            <a:r>
              <a:rPr b="0" lang="en-US" sz="1800" spc="-1" strike="noStrike" u="sng">
                <a:solidFill>
                  <a:srgbClr val="000000"/>
                </a:solidFill>
                <a:uFillTx/>
                <a:latin typeface="Arial"/>
              </a:rPr>
              <a:t> (used as a solvent in industrial processes for essential applications). As methyl bromide and halons are broken apart, they release bromine atoms, which are 60 times more destructive to ozone molecules than chlorine atoms.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auses of Deplet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erosol bomb propulsion</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fire extinguisher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refrigeration and freezing</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ir conditioners (mobile and fixed)</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lvent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pesticide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plastic foams</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iscellaneous u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ff00"/>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e are doing about i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7, the U.S. and fewer than 30 other countries signed the Montreal Protocol treaty to phase out the production and use of ODS. In September 2009, the Montreal Protocol became the first international agreement to reach universal participation, with 196 Parties. The Protocol continues to phase out ODS worldwide. As international control measures reduce the release of ODS, natural atmospheric processes will repair the ozone layer during the second half of the 21st cent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we trying to slow it dow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various ways and methods we can use to stop ozone depletion. Many scientists advice to minimize aircraft flights at high altitudes because it causes pollution and as a result it creates water vapor deposition and oxygen reduction. By minimizing rocket flights also water vapor deposition can be minimiz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11111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s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qUfVMogIdr8&amp;feature=re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vuFhaawqsNM&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c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cooldownglobalwarming.com/global-warming/ozone-depletion/index.htm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pa.gov/ozone/science/q_a.htm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iki.answers.com/Q/What_can_we_do_to_protect_the_ozone_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4:00:58Z</dcterms:created>
  <dc:creator>SASD</dc:creator>
  <dc:description/>
  <dc:language>en-US</dc:language>
  <cp:lastModifiedBy>SASD</cp:lastModifiedBy>
  <dcterms:modified xsi:type="dcterms:W3CDTF">2011-02-10T14:39:13Z</dcterms:modified>
  <cp:revision>5</cp:revision>
  <dc:subject/>
  <dc:title>Ozone Depletion</dc:title>
</cp:coreProperties>
</file>